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6BF-6CCA-40B6-89E9-1A5AD7D5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AE1-7056-4BA3-99E7-8C95EFF1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955-F75A-4E79-9F3D-0D1B3C9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3CA-E32A-456F-A5E3-070563B4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A86-09E7-46D8-9915-4D016F18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F27-4AE2-4E09-AEC6-54267E6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D0F-F9B3-460E-9B3A-66AE245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862-2FBF-4212-917D-BEC9C57A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100-0BE2-4C16-9F54-97EA32F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56D-5084-478E-9BF7-F4F02A0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34F-D3E5-427B-A5C7-04FFEED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A1F-2C68-4CB8-83F8-8D5FC2C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8052-6F20-4148-A1D2-19E7928C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undamentals Level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slide will change in 15 sec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each exercise at your pace until the slide changes (30 Seconds e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ver dir="lu"/>
    <p:sndAc>
      <p:stSnd>
        <p:snd r:embed="rId1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468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6934320" cy="68562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54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-20520"/>
            <a:ext cx="6934320" cy="68245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 for 60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over dir="lu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010640" cy="6799320"/>
          </a:xfrm>
          <a:prstGeom prst="rect">
            <a:avLst/>
          </a:prstGeom>
          <a:ln w="0">
            <a:noFill/>
          </a:ln>
        </p:spPr>
      </p:pic>
    </p:spTree>
  </p:cSld>
  <p:transition advTm="35000">
    <p:cover dir="lu"/>
    <p:sndAc>
      <p:stSnd>
        <p:snd r:embed="rId2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20:11:32Z</dcterms:created>
  <dc:creator>jcps</dc:creator>
  <dc:description/>
  <dc:language>en-US</dc:language>
  <cp:lastModifiedBy>Devin Clifford</cp:lastModifiedBy>
  <dcterms:modified xsi:type="dcterms:W3CDTF">2010-06-09T17:54:07Z</dcterms:modified>
  <cp:revision>11</cp:revision>
  <dc:subject/>
  <dc:title>Slide 1</dc:title>
</cp:coreProperties>
</file>